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022-7F1F-44DC-AF31-DFC75AC0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286-F7F0-4EC4-BB64-76AB85BA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55E-808B-428E-B2EC-A8B74BB8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4A5-BA40-44BB-B05B-2B594813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7D2-AE7C-46D4-9D86-421705AE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891-42C3-4B55-814B-190E903C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DB0-AB10-4EE5-9574-40DB6036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D0A-5C55-48FA-8822-2E1DB828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8CE-3ED2-4ABE-9316-5B0F22F9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092-7727-4CF3-B9C5-3656AB3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B94-DEEA-473E-B76B-777D8BDD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197-A2EB-4877-ACC6-9A454AF9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71CA-C2D5-42BA-8B16-D28733A2BE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ie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5261040"/>
              <a:ext cx="3456000" cy="328680"/>
            </a:xfrm>
            <a:custGeom>
              <a:avLst/>
              <a:gdLst/>
              <a:ahLst/>
              <a:rect l="l" t="t" r="r" b="b"/>
              <a:pathLst>
                <a:path w="2177" h="207">
                  <a:moveTo>
                    <a:pt x="0" y="71"/>
                  </a:moveTo>
                  <a:lnTo>
                    <a:pt x="454" y="207"/>
                  </a:lnTo>
                  <a:lnTo>
                    <a:pt x="2177" y="26"/>
                  </a:lnTo>
                  <a:lnTo>
                    <a:pt x="2038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04360" y="5084640"/>
              <a:ext cx="156960" cy="36036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0" y="0"/>
                  </a:moveTo>
                  <a:cubicBezTo>
                    <a:pt x="41" y="26"/>
                    <a:pt x="83" y="53"/>
                    <a:pt x="91" y="91"/>
                  </a:cubicBezTo>
                  <a:cubicBezTo>
                    <a:pt x="99" y="129"/>
                    <a:pt x="53" y="204"/>
                    <a:pt x="4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92720" y="6381720"/>
              <a:ext cx="3311640" cy="432000"/>
            </a:xfrm>
            <a:custGeom>
              <a:avLst/>
              <a:gdLst/>
              <a:ahLst/>
              <a:rect l="l" t="t" r="r" b="b"/>
              <a:pathLst>
                <a:path w="2086" h="272">
                  <a:moveTo>
                    <a:pt x="0" y="90"/>
                  </a:moveTo>
                  <a:lnTo>
                    <a:pt x="2086" y="0"/>
                  </a:lnTo>
                  <a:lnTo>
                    <a:pt x="2086" y="272"/>
                  </a:lnTo>
                  <a:lnTo>
                    <a:pt x="0" y="1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9920" y="5257800"/>
              <a:ext cx="3102120" cy="241200"/>
            </a:xfrm>
            <a:custGeom>
              <a:avLst/>
              <a:gdLst/>
              <a:ahLst/>
              <a:rect l="l" t="t" r="r" b="b"/>
              <a:pathLst>
                <a:path w="1954" h="152">
                  <a:moveTo>
                    <a:pt x="1830" y="0"/>
                  </a:moveTo>
                  <a:lnTo>
                    <a:pt x="0" y="130"/>
                  </a:lnTo>
                  <a:lnTo>
                    <a:pt x="66" y="152"/>
                  </a:lnTo>
                  <a:lnTo>
                    <a:pt x="1954" y="26"/>
                  </a:lnTo>
                  <a:lnTo>
                    <a:pt x="183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575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</cp:lastModifiedBy>
  <dcterms:modified xsi:type="dcterms:W3CDTF">2007-01-09T16:17:55Z</dcterms:modified>
  <cp:revision>29</cp:revision>
  <dc:subject/>
  <dc:title>Taller de Ciencias en la Música </dc:title>
</cp:coreProperties>
</file>